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F66B-3143-4958-B93F-EAB4046E5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9A0C-B0EE-4EAB-A73F-D3096644B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15E1-EDA2-4A76-8546-3DA67764A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028D-D369-4621-BC7A-A9F5228BD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6648-25E0-4ABC-AF66-880051F260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014A-36E3-49E2-9ACD-38B7BB2E77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D6F0-F479-4E4E-9023-911B92FB28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2866-DCB1-4B55-9349-1643DDE77A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8C01-9D2E-4A41-B159-9B2F55111D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E1DC-5EF9-4A81-8A32-D32663485A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1C77-E716-426F-8451-FBAA077D58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89BF-A26D-48F6-B1AE-0A4EFD3A3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6C7C-7AE7-4DC4-91B0-8577F033A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E3E2-FAC5-4878-8555-BBD266915C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0E7C-93B5-42A4-A335-F02E1BFAF3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6453-8559-4EE4-AC28-783993AAAC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D85F-1774-46DE-AD50-FC77C9663B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DC0-97BC-4846-882B-6486CFBA22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89F-A561-40C3-9FCC-9C4BD930A3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97F-C0B7-43B4-871D-AD9972A3DD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157-2E40-4FF7-AD2C-FFACA9BE11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6AE-C1A2-46AB-9AA5-639624ED0C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1890-9234-4D0A-89E0-7EEC2129D5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4E7-E81B-4E82-A5C3-A0C90935C6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EEB-BDA3-48CF-8103-58ECB5DE65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7BD-C1A8-4D41-A28B-164429C57F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EAE-99A3-485D-8746-BB4F445C64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967-6F47-477B-9DD2-83F80BF79C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6B5-9B1A-40A4-856C-BD535B73D0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858-1315-470B-A59C-B30BBBCC48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66EAF-FE47-41DD-A68A-0251EDAFB0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E2CDE-64D0-476E-8D4F-5BBEDADF05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B6985-9032-4B24-936F-42E667BAD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973B-A3DE-451C-AC37-834C83CF65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A7E60-6168-40E3-AACC-85D563000C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C7C7D-45EF-4355-A577-8083A8051C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C5546-8928-4045-9960-E81BB3670A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43C46-C3CE-4E0D-974E-6DD467B30D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44868-FDE8-473E-BAB4-B22C66D402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A4606-C968-4042-A9AE-167F8CAD9E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2C4D8-A777-4F59-A9F6-A58322DCE5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C2B85-5E18-4516-BF17-96100DEDA8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5C206-DAED-4BF8-9C05-DF87BCF6FD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9D515-E4B8-4A3D-9AC0-9F808CF9D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5288-BEE2-4708-9743-BDDF599BAE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E1110-76E8-427E-8BD3-CCC21AFBC44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37F8E-2D81-4E13-AB0A-2EFC4E29F6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BC9B2-0685-4B14-BFB0-61EB2D42C7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3F0FE-541C-452C-ABE7-6D7357C4F30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8F8F1-AACC-421D-8619-7F471D546F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DE150-593B-43AE-B42F-44AB85F3FE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960F6-14B5-411D-A15E-756CD745B3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F965A-EA12-4B7C-9A89-467D8CB1074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AAF09-F4F9-43A4-9A6C-A133038D5CD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18FBF-4C5B-4726-9DD6-0E287B781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296C-B98B-4722-8E93-67C51D0E85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77A82-0BAA-4CED-907F-8CEACA12E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3F7D-0F34-488B-B075-BA68D5684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149B-14C5-4833-B03F-BD0BDF9F5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C7E0-1511-4B90-A15F-F61E71E37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528480" indent="-28548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928800" indent="-22860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2860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843200" indent="-228600"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843200" indent="-228600">
              <a:spcBef>
                <a:spcPts val="1100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843200" indent="-228600">
              <a:spcBef>
                <a:spcPts val="1100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e2fad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AC8-E2FA-4BCE-A5AB-0080D562E0FE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500"/>
            </a:gs>
            <a:gs pos="100000">
              <a:srgbClr val="6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39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-28584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979560" indent="-228600">
              <a:spcBef>
                <a:spcPts val="1100"/>
              </a:spcBef>
              <a:buClr>
                <a:srgbClr val="8080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1893960" indent="-228600">
              <a:spcBef>
                <a:spcPts val="1100"/>
              </a:spcBef>
              <a:buClr>
                <a:srgbClr val="cca5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5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6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666440" y="9232920"/>
            <a:ext cx="334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A38A-CAD8-41D6-82D8-DBDA3178BBA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500"/>
            </a:gs>
            <a:gs pos="100000">
              <a:srgbClr val="6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39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-28584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979560" indent="-228600">
              <a:spcBef>
                <a:spcPts val="1100"/>
              </a:spcBef>
              <a:buClr>
                <a:srgbClr val="8080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1893960" indent="-228600">
              <a:spcBef>
                <a:spcPts val="1100"/>
              </a:spcBef>
              <a:buClr>
                <a:srgbClr val="cca5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5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6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0666440" y="9232920"/>
            <a:ext cx="334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798F-93E8-4946-AFA1-73E172B2EA8C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500"/>
            </a:gs>
            <a:gs pos="100000">
              <a:srgbClr val="6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39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-28584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979560" indent="-228600">
              <a:spcBef>
                <a:spcPts val="1100"/>
              </a:spcBef>
              <a:buClr>
                <a:srgbClr val="8080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1893960" indent="-228600">
              <a:spcBef>
                <a:spcPts val="1100"/>
              </a:spcBef>
              <a:buClr>
                <a:srgbClr val="cca5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5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6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0666440" y="9232920"/>
            <a:ext cx="334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D184-A112-4CF4-B3F8-A52FEC446B0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500"/>
            </a:gs>
            <a:gs pos="100000">
              <a:srgbClr val="6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39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-28584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979560" indent="-228600">
              <a:spcBef>
                <a:spcPts val="1100"/>
              </a:spcBef>
              <a:buClr>
                <a:srgbClr val="8080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1893960" indent="-228600">
              <a:spcBef>
                <a:spcPts val="1100"/>
              </a:spcBef>
              <a:buClr>
                <a:srgbClr val="cca5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5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6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0666440" y="9232920"/>
            <a:ext cx="334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0A6D-23EE-45C5-B086-D088944DD7EE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5403960" y="2543040"/>
            <a:ext cx="7595640" cy="7191360"/>
            <a:chOff x="5403960" y="2543040"/>
            <a:chExt cx="7595640" cy="7191360"/>
          </a:xfrm>
        </p:grpSpPr>
        <p:sp>
          <p:nvSpPr>
            <p:cNvPr id="196" name=""/>
            <p:cNvSpPr/>
            <p:nvPr/>
          </p:nvSpPr>
          <p:spPr>
            <a:xfrm>
              <a:off x="9548640" y="3079440"/>
              <a:ext cx="444240" cy="230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704160" y="2673360"/>
              <a:ext cx="105840" cy="106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20000">
              <a:off x="11764800" y="3365280"/>
              <a:ext cx="13680" cy="4681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994760" y="7918200"/>
              <a:ext cx="149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20000">
              <a:off x="12404520" y="3461760"/>
              <a:ext cx="14040" cy="451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700000">
              <a:off x="12723480" y="3433320"/>
              <a:ext cx="14040" cy="19890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460000">
              <a:off x="7770600" y="4097160"/>
              <a:ext cx="12240" cy="45910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1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139400">
              <a:off x="6238440" y="4103280"/>
              <a:ext cx="13680" cy="4784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39400">
              <a:off x="6840360" y="4220640"/>
              <a:ext cx="13680" cy="430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6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45360" y="6818040"/>
              <a:ext cx="140616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" y="2492"/>
                  </a:moveTo>
                  <a:lnTo>
                    <a:pt x="5617" y="4985"/>
                  </a:lnTo>
                  <a:lnTo>
                    <a:pt x="8702" y="4985"/>
                  </a:lnTo>
                  <a:lnTo>
                    <a:pt x="12274" y="4154"/>
                  </a:lnTo>
                  <a:lnTo>
                    <a:pt x="16399" y="2492"/>
                  </a:lnTo>
                  <a:lnTo>
                    <a:pt x="21184" y="0"/>
                  </a:lnTo>
                  <a:lnTo>
                    <a:pt x="21600" y="15785"/>
                  </a:lnTo>
                  <a:lnTo>
                    <a:pt x="17231" y="19108"/>
                  </a:lnTo>
                  <a:lnTo>
                    <a:pt x="14354" y="20769"/>
                  </a:lnTo>
                  <a:lnTo>
                    <a:pt x="11025" y="21600"/>
                  </a:lnTo>
                  <a:lnTo>
                    <a:pt x="7454" y="21600"/>
                  </a:lnTo>
                  <a:lnTo>
                    <a:pt x="3744" y="20769"/>
                  </a:lnTo>
                  <a:lnTo>
                    <a:pt x="0" y="18277"/>
                  </a:lnTo>
                  <a:lnTo>
                    <a:pt x="208" y="2492"/>
                  </a:lnTo>
                  <a:lnTo>
                    <a:pt x="208" y="2492"/>
                  </a:lnTo>
                  <a:close/>
                  <a:moveTo>
                    <a:pt x="208" y="2492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748880" y="8105760"/>
              <a:ext cx="22489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01" y="1029"/>
                  </a:moveTo>
                  <a:lnTo>
                    <a:pt x="14182" y="1029"/>
                  </a:lnTo>
                  <a:lnTo>
                    <a:pt x="12247" y="1029"/>
                  </a:lnTo>
                  <a:lnTo>
                    <a:pt x="10419" y="1029"/>
                  </a:lnTo>
                  <a:lnTo>
                    <a:pt x="8723" y="1029"/>
                  </a:lnTo>
                  <a:lnTo>
                    <a:pt x="7287" y="0"/>
                  </a:lnTo>
                  <a:lnTo>
                    <a:pt x="6004" y="0"/>
                  </a:lnTo>
                  <a:lnTo>
                    <a:pt x="4829" y="0"/>
                  </a:lnTo>
                  <a:lnTo>
                    <a:pt x="3915" y="1029"/>
                  </a:lnTo>
                  <a:lnTo>
                    <a:pt x="3002" y="1029"/>
                  </a:lnTo>
                  <a:lnTo>
                    <a:pt x="2349" y="1029"/>
                  </a:lnTo>
                  <a:lnTo>
                    <a:pt x="1175" y="1029"/>
                  </a:lnTo>
                  <a:lnTo>
                    <a:pt x="522" y="2057"/>
                  </a:lnTo>
                  <a:lnTo>
                    <a:pt x="131" y="3086"/>
                  </a:lnTo>
                  <a:lnTo>
                    <a:pt x="0" y="4114"/>
                  </a:lnTo>
                  <a:lnTo>
                    <a:pt x="261" y="7200"/>
                  </a:lnTo>
                  <a:lnTo>
                    <a:pt x="392" y="8229"/>
                  </a:lnTo>
                  <a:lnTo>
                    <a:pt x="653" y="9257"/>
                  </a:lnTo>
                  <a:lnTo>
                    <a:pt x="1305" y="10286"/>
                  </a:lnTo>
                  <a:lnTo>
                    <a:pt x="1958" y="12343"/>
                  </a:lnTo>
                  <a:lnTo>
                    <a:pt x="3132" y="14400"/>
                  </a:lnTo>
                  <a:lnTo>
                    <a:pt x="4568" y="15429"/>
                  </a:lnTo>
                  <a:lnTo>
                    <a:pt x="6373" y="17486"/>
                  </a:lnTo>
                  <a:lnTo>
                    <a:pt x="8462" y="18514"/>
                  </a:lnTo>
                  <a:lnTo>
                    <a:pt x="10941" y="20571"/>
                  </a:lnTo>
                  <a:lnTo>
                    <a:pt x="13530" y="20571"/>
                  </a:lnTo>
                  <a:lnTo>
                    <a:pt x="16401" y="21600"/>
                  </a:lnTo>
                  <a:lnTo>
                    <a:pt x="18990" y="21600"/>
                  </a:lnTo>
                  <a:lnTo>
                    <a:pt x="21600" y="21600"/>
                  </a:lnTo>
                  <a:lnTo>
                    <a:pt x="21600" y="2057"/>
                  </a:lnTo>
                  <a:lnTo>
                    <a:pt x="19120" y="2057"/>
                  </a:lnTo>
                  <a:lnTo>
                    <a:pt x="16401" y="1029"/>
                  </a:lnTo>
                  <a:lnTo>
                    <a:pt x="16401" y="1029"/>
                  </a:lnTo>
                  <a:close/>
                  <a:moveTo>
                    <a:pt x="16401" y="1029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802520" y="8227800"/>
              <a:ext cx="2195280" cy="55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35" y="4761"/>
                  </a:lnTo>
                  <a:lnTo>
                    <a:pt x="1471" y="8464"/>
                  </a:lnTo>
                  <a:lnTo>
                    <a:pt x="2675" y="12078"/>
                  </a:lnTo>
                  <a:lnTo>
                    <a:pt x="4414" y="15252"/>
                  </a:lnTo>
                  <a:lnTo>
                    <a:pt x="6531" y="17897"/>
                  </a:lnTo>
                  <a:lnTo>
                    <a:pt x="7869" y="18955"/>
                  </a:lnTo>
                  <a:lnTo>
                    <a:pt x="9206" y="20013"/>
                  </a:lnTo>
                  <a:lnTo>
                    <a:pt x="10677" y="20542"/>
                  </a:lnTo>
                  <a:lnTo>
                    <a:pt x="12394" y="21071"/>
                  </a:lnTo>
                  <a:lnTo>
                    <a:pt x="14133" y="21600"/>
                  </a:lnTo>
                  <a:lnTo>
                    <a:pt x="16139" y="21600"/>
                  </a:lnTo>
                  <a:lnTo>
                    <a:pt x="19059" y="21600"/>
                  </a:lnTo>
                  <a:lnTo>
                    <a:pt x="21600" y="21071"/>
                  </a:lnTo>
                  <a:lnTo>
                    <a:pt x="21600" y="5290"/>
                  </a:lnTo>
                  <a:lnTo>
                    <a:pt x="15604" y="5290"/>
                  </a:lnTo>
                  <a:lnTo>
                    <a:pt x="11212" y="4761"/>
                  </a:lnTo>
                  <a:lnTo>
                    <a:pt x="7066" y="3703"/>
                  </a:lnTo>
                  <a:lnTo>
                    <a:pt x="3344" y="2116"/>
                  </a:lnTo>
                  <a:lnTo>
                    <a:pt x="1605" y="1058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843920" y="8105760"/>
              <a:ext cx="21556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99" y="0"/>
                  </a:moveTo>
                  <a:lnTo>
                    <a:pt x="13582" y="0"/>
                  </a:lnTo>
                  <a:lnTo>
                    <a:pt x="11697" y="0"/>
                  </a:lnTo>
                  <a:lnTo>
                    <a:pt x="9789" y="0"/>
                  </a:lnTo>
                  <a:lnTo>
                    <a:pt x="8290" y="0"/>
                  </a:lnTo>
                  <a:lnTo>
                    <a:pt x="6791" y="0"/>
                  </a:lnTo>
                  <a:lnTo>
                    <a:pt x="5565" y="0"/>
                  </a:lnTo>
                  <a:lnTo>
                    <a:pt x="4497" y="0"/>
                  </a:lnTo>
                  <a:lnTo>
                    <a:pt x="3679" y="0"/>
                  </a:lnTo>
                  <a:lnTo>
                    <a:pt x="2862" y="1440"/>
                  </a:lnTo>
                  <a:lnTo>
                    <a:pt x="2180" y="1440"/>
                  </a:lnTo>
                  <a:lnTo>
                    <a:pt x="1226" y="2880"/>
                  </a:lnTo>
                  <a:lnTo>
                    <a:pt x="681" y="2880"/>
                  </a:lnTo>
                  <a:lnTo>
                    <a:pt x="273" y="4320"/>
                  </a:lnTo>
                  <a:lnTo>
                    <a:pt x="136" y="4320"/>
                  </a:lnTo>
                  <a:lnTo>
                    <a:pt x="0" y="5760"/>
                  </a:lnTo>
                  <a:lnTo>
                    <a:pt x="136" y="7200"/>
                  </a:lnTo>
                  <a:lnTo>
                    <a:pt x="545" y="8640"/>
                  </a:lnTo>
                  <a:lnTo>
                    <a:pt x="1226" y="10080"/>
                  </a:lnTo>
                  <a:lnTo>
                    <a:pt x="2317" y="12960"/>
                  </a:lnTo>
                  <a:lnTo>
                    <a:pt x="3816" y="14400"/>
                  </a:lnTo>
                  <a:lnTo>
                    <a:pt x="5701" y="15840"/>
                  </a:lnTo>
                  <a:lnTo>
                    <a:pt x="7745" y="18720"/>
                  </a:lnTo>
                  <a:lnTo>
                    <a:pt x="10198" y="20160"/>
                  </a:lnTo>
                  <a:lnTo>
                    <a:pt x="12901" y="20160"/>
                  </a:lnTo>
                  <a:lnTo>
                    <a:pt x="15763" y="21600"/>
                  </a:lnTo>
                  <a:lnTo>
                    <a:pt x="18738" y="21600"/>
                  </a:lnTo>
                  <a:lnTo>
                    <a:pt x="21600" y="21600"/>
                  </a:lnTo>
                  <a:lnTo>
                    <a:pt x="21600" y="1440"/>
                  </a:lnTo>
                  <a:lnTo>
                    <a:pt x="18874" y="1440"/>
                  </a:lnTo>
                  <a:lnTo>
                    <a:pt x="17534" y="1440"/>
                  </a:lnTo>
                  <a:lnTo>
                    <a:pt x="15899" y="0"/>
                  </a:lnTo>
                  <a:lnTo>
                    <a:pt x="15899" y="0"/>
                  </a:lnTo>
                  <a:close/>
                  <a:moveTo>
                    <a:pt x="15899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03720" y="3476520"/>
              <a:ext cx="230040" cy="3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1672"/>
                  </a:lnTo>
                  <a:lnTo>
                    <a:pt x="6353" y="10034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97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3720" y="3813120"/>
              <a:ext cx="203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03720" y="39859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47280" y="2717640"/>
              <a:ext cx="23004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31"/>
                  </a:lnTo>
                  <a:lnTo>
                    <a:pt x="6353" y="9969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38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361680" y="3043080"/>
              <a:ext cx="1886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47280" y="32335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53680" y="7956360"/>
              <a:ext cx="1472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10120" y="2543040"/>
              <a:ext cx="5876640" cy="10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8" y="0"/>
                  </a:moveTo>
                  <a:lnTo>
                    <a:pt x="21600" y="3503"/>
                  </a:lnTo>
                  <a:lnTo>
                    <a:pt x="50" y="21600"/>
                  </a:lnTo>
                  <a:lnTo>
                    <a:pt x="0" y="19265"/>
                  </a:lnTo>
                  <a:lnTo>
                    <a:pt x="10200" y="4670"/>
                  </a:lnTo>
                  <a:lnTo>
                    <a:pt x="11250" y="3795"/>
                  </a:lnTo>
                  <a:lnTo>
                    <a:pt x="21458" y="0"/>
                  </a:lnTo>
                  <a:lnTo>
                    <a:pt x="21458" y="0"/>
                  </a:lnTo>
                  <a:close/>
                  <a:moveTo>
                    <a:pt x="21458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22920" y="8516880"/>
              <a:ext cx="188280" cy="214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29480" y="8735760"/>
              <a:ext cx="20268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21240" y="8735760"/>
              <a:ext cx="164520" cy="203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6280" y="8662680"/>
              <a:ext cx="3112920" cy="878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03960" y="8653320"/>
              <a:ext cx="3390480" cy="64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08360" y="8712000"/>
              <a:ext cx="3217680" cy="4968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48480" y="8550000"/>
              <a:ext cx="20268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39280" y="8132760"/>
              <a:ext cx="164880" cy="244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565920" y="4000320"/>
              <a:ext cx="390240" cy="5734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675720" y="3485880"/>
              <a:ext cx="171000" cy="546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524880" y="3933720"/>
              <a:ext cx="462960" cy="117360"/>
            </a:xfrm>
            <a:prstGeom prst="roundRect">
              <a:avLst>
                <a:gd name="adj" fmla="val 11718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720000" y="3449520"/>
              <a:ext cx="568080" cy="355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029" y="1151"/>
                  </a:lnTo>
                  <a:lnTo>
                    <a:pt x="1029" y="822"/>
                  </a:lnTo>
                  <a:lnTo>
                    <a:pt x="0" y="164"/>
                  </a:lnTo>
                  <a:lnTo>
                    <a:pt x="6171" y="0"/>
                  </a:lnTo>
                  <a:lnTo>
                    <a:pt x="6171" y="0"/>
                  </a:lnTo>
                  <a:lnTo>
                    <a:pt x="6686" y="658"/>
                  </a:lnTo>
                  <a:lnTo>
                    <a:pt x="7543" y="90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410400" y="3206520"/>
              <a:ext cx="71568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05" y="0"/>
                  </a:moveTo>
                  <a:lnTo>
                    <a:pt x="15516" y="939"/>
                  </a:lnTo>
                  <a:lnTo>
                    <a:pt x="18797" y="5635"/>
                  </a:lnTo>
                  <a:lnTo>
                    <a:pt x="20780" y="12209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752" y="12209"/>
                  </a:lnTo>
                  <a:lnTo>
                    <a:pt x="3213" y="5635"/>
                  </a:lnTo>
                  <a:lnTo>
                    <a:pt x="6494" y="939"/>
                  </a:lnTo>
                  <a:lnTo>
                    <a:pt x="11005" y="0"/>
                  </a:lnTo>
                  <a:lnTo>
                    <a:pt x="11005" y="0"/>
                  </a:lnTo>
                  <a:close/>
                  <a:moveTo>
                    <a:pt x="11005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Boyhood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9800" y="1625760"/>
            <a:ext cx="64771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Arial"/>
              </a:rPr>
              <a:t>Born: July 26, 356 B.C. in Pella, Maced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Arial"/>
              </a:rPr>
              <a:t>Son of King Philip II of Macedon and Princess Olympi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ilip II was a great military leader and organizer and Olympias was passionate and hot-tempe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exander inherited the best qualities from both of his parents, which later prove to be assets to his legac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023240" y="1523880"/>
            <a:ext cx="5643360" cy="748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ctr">
            <a:noAutofit/>
          </a:bodyPr>
          <a:p>
            <a:pPr marL="95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Death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Arial"/>
              </a:rPr>
              <a:t>Died June 11th 323 BC. 32 years old. in the palace of Nebuchadnezzar II, in Babyl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Arial"/>
              </a:rPr>
              <a:t>Cause is unkn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exander was buried in a gold cask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2650-0AA3-413D-8372-1819A24125E7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89D0-EF77-466D-9591-4FFC933AA24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5403960" y="2543040"/>
            <a:ext cx="7595640" cy="7191360"/>
            <a:chOff x="5403960" y="2543040"/>
            <a:chExt cx="7595640" cy="7191360"/>
          </a:xfrm>
        </p:grpSpPr>
        <p:sp>
          <p:nvSpPr>
            <p:cNvPr id="234" name=""/>
            <p:cNvSpPr/>
            <p:nvPr/>
          </p:nvSpPr>
          <p:spPr>
            <a:xfrm>
              <a:off x="9548640" y="3079440"/>
              <a:ext cx="444240" cy="230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704160" y="2673360"/>
              <a:ext cx="105840" cy="106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20000">
              <a:off x="11764800" y="3365280"/>
              <a:ext cx="13680" cy="4681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994760" y="7918200"/>
              <a:ext cx="149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20000">
              <a:off x="12404520" y="3461760"/>
              <a:ext cx="14040" cy="451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700000">
              <a:off x="12723480" y="3433320"/>
              <a:ext cx="14040" cy="19890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460000">
              <a:off x="7770600" y="4097160"/>
              <a:ext cx="12240" cy="45910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1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139400">
              <a:off x="6238440" y="4103280"/>
              <a:ext cx="13680" cy="4784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39400">
              <a:off x="6840360" y="4220640"/>
              <a:ext cx="13680" cy="430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6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45360" y="6818040"/>
              <a:ext cx="140616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" y="2492"/>
                  </a:moveTo>
                  <a:lnTo>
                    <a:pt x="5617" y="4985"/>
                  </a:lnTo>
                  <a:lnTo>
                    <a:pt x="8702" y="4985"/>
                  </a:lnTo>
                  <a:lnTo>
                    <a:pt x="12274" y="4154"/>
                  </a:lnTo>
                  <a:lnTo>
                    <a:pt x="16399" y="2492"/>
                  </a:lnTo>
                  <a:lnTo>
                    <a:pt x="21184" y="0"/>
                  </a:lnTo>
                  <a:lnTo>
                    <a:pt x="21600" y="15785"/>
                  </a:lnTo>
                  <a:lnTo>
                    <a:pt x="17231" y="19108"/>
                  </a:lnTo>
                  <a:lnTo>
                    <a:pt x="14354" y="20769"/>
                  </a:lnTo>
                  <a:lnTo>
                    <a:pt x="11025" y="21600"/>
                  </a:lnTo>
                  <a:lnTo>
                    <a:pt x="7454" y="21600"/>
                  </a:lnTo>
                  <a:lnTo>
                    <a:pt x="3744" y="20769"/>
                  </a:lnTo>
                  <a:lnTo>
                    <a:pt x="0" y="18277"/>
                  </a:lnTo>
                  <a:lnTo>
                    <a:pt x="208" y="2492"/>
                  </a:lnTo>
                  <a:lnTo>
                    <a:pt x="208" y="2492"/>
                  </a:lnTo>
                  <a:close/>
                  <a:moveTo>
                    <a:pt x="208" y="2492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748880" y="8105760"/>
              <a:ext cx="22489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01" y="1029"/>
                  </a:moveTo>
                  <a:lnTo>
                    <a:pt x="14182" y="1029"/>
                  </a:lnTo>
                  <a:lnTo>
                    <a:pt x="12247" y="1029"/>
                  </a:lnTo>
                  <a:lnTo>
                    <a:pt x="10419" y="1029"/>
                  </a:lnTo>
                  <a:lnTo>
                    <a:pt x="8723" y="1029"/>
                  </a:lnTo>
                  <a:lnTo>
                    <a:pt x="7287" y="0"/>
                  </a:lnTo>
                  <a:lnTo>
                    <a:pt x="6004" y="0"/>
                  </a:lnTo>
                  <a:lnTo>
                    <a:pt x="4829" y="0"/>
                  </a:lnTo>
                  <a:lnTo>
                    <a:pt x="3915" y="1029"/>
                  </a:lnTo>
                  <a:lnTo>
                    <a:pt x="3002" y="1029"/>
                  </a:lnTo>
                  <a:lnTo>
                    <a:pt x="2349" y="1029"/>
                  </a:lnTo>
                  <a:lnTo>
                    <a:pt x="1175" y="1029"/>
                  </a:lnTo>
                  <a:lnTo>
                    <a:pt x="522" y="2057"/>
                  </a:lnTo>
                  <a:lnTo>
                    <a:pt x="131" y="3086"/>
                  </a:lnTo>
                  <a:lnTo>
                    <a:pt x="0" y="4114"/>
                  </a:lnTo>
                  <a:lnTo>
                    <a:pt x="261" y="7200"/>
                  </a:lnTo>
                  <a:lnTo>
                    <a:pt x="392" y="8229"/>
                  </a:lnTo>
                  <a:lnTo>
                    <a:pt x="653" y="9257"/>
                  </a:lnTo>
                  <a:lnTo>
                    <a:pt x="1305" y="10286"/>
                  </a:lnTo>
                  <a:lnTo>
                    <a:pt x="1958" y="12343"/>
                  </a:lnTo>
                  <a:lnTo>
                    <a:pt x="3132" y="14400"/>
                  </a:lnTo>
                  <a:lnTo>
                    <a:pt x="4568" y="15429"/>
                  </a:lnTo>
                  <a:lnTo>
                    <a:pt x="6373" y="17486"/>
                  </a:lnTo>
                  <a:lnTo>
                    <a:pt x="8462" y="18514"/>
                  </a:lnTo>
                  <a:lnTo>
                    <a:pt x="10941" y="20571"/>
                  </a:lnTo>
                  <a:lnTo>
                    <a:pt x="13530" y="20571"/>
                  </a:lnTo>
                  <a:lnTo>
                    <a:pt x="16401" y="21600"/>
                  </a:lnTo>
                  <a:lnTo>
                    <a:pt x="18990" y="21600"/>
                  </a:lnTo>
                  <a:lnTo>
                    <a:pt x="21600" y="21600"/>
                  </a:lnTo>
                  <a:lnTo>
                    <a:pt x="21600" y="2057"/>
                  </a:lnTo>
                  <a:lnTo>
                    <a:pt x="19120" y="2057"/>
                  </a:lnTo>
                  <a:lnTo>
                    <a:pt x="16401" y="1029"/>
                  </a:lnTo>
                  <a:lnTo>
                    <a:pt x="16401" y="1029"/>
                  </a:lnTo>
                  <a:close/>
                  <a:moveTo>
                    <a:pt x="16401" y="1029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802520" y="8227800"/>
              <a:ext cx="2195280" cy="55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35" y="4761"/>
                  </a:lnTo>
                  <a:lnTo>
                    <a:pt x="1471" y="8464"/>
                  </a:lnTo>
                  <a:lnTo>
                    <a:pt x="2675" y="12078"/>
                  </a:lnTo>
                  <a:lnTo>
                    <a:pt x="4414" y="15252"/>
                  </a:lnTo>
                  <a:lnTo>
                    <a:pt x="6531" y="17897"/>
                  </a:lnTo>
                  <a:lnTo>
                    <a:pt x="7869" y="18955"/>
                  </a:lnTo>
                  <a:lnTo>
                    <a:pt x="9206" y="20013"/>
                  </a:lnTo>
                  <a:lnTo>
                    <a:pt x="10677" y="20542"/>
                  </a:lnTo>
                  <a:lnTo>
                    <a:pt x="12394" y="21071"/>
                  </a:lnTo>
                  <a:lnTo>
                    <a:pt x="14133" y="21600"/>
                  </a:lnTo>
                  <a:lnTo>
                    <a:pt x="16139" y="21600"/>
                  </a:lnTo>
                  <a:lnTo>
                    <a:pt x="19059" y="21600"/>
                  </a:lnTo>
                  <a:lnTo>
                    <a:pt x="21600" y="21071"/>
                  </a:lnTo>
                  <a:lnTo>
                    <a:pt x="21600" y="5290"/>
                  </a:lnTo>
                  <a:lnTo>
                    <a:pt x="15604" y="5290"/>
                  </a:lnTo>
                  <a:lnTo>
                    <a:pt x="11212" y="4761"/>
                  </a:lnTo>
                  <a:lnTo>
                    <a:pt x="7066" y="3703"/>
                  </a:lnTo>
                  <a:lnTo>
                    <a:pt x="3344" y="2116"/>
                  </a:lnTo>
                  <a:lnTo>
                    <a:pt x="1605" y="1058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843920" y="8105760"/>
              <a:ext cx="21556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99" y="0"/>
                  </a:moveTo>
                  <a:lnTo>
                    <a:pt x="13582" y="0"/>
                  </a:lnTo>
                  <a:lnTo>
                    <a:pt x="11697" y="0"/>
                  </a:lnTo>
                  <a:lnTo>
                    <a:pt x="9789" y="0"/>
                  </a:lnTo>
                  <a:lnTo>
                    <a:pt x="8290" y="0"/>
                  </a:lnTo>
                  <a:lnTo>
                    <a:pt x="6791" y="0"/>
                  </a:lnTo>
                  <a:lnTo>
                    <a:pt x="5565" y="0"/>
                  </a:lnTo>
                  <a:lnTo>
                    <a:pt x="4497" y="0"/>
                  </a:lnTo>
                  <a:lnTo>
                    <a:pt x="3679" y="0"/>
                  </a:lnTo>
                  <a:lnTo>
                    <a:pt x="2862" y="1440"/>
                  </a:lnTo>
                  <a:lnTo>
                    <a:pt x="2180" y="1440"/>
                  </a:lnTo>
                  <a:lnTo>
                    <a:pt x="1226" y="2880"/>
                  </a:lnTo>
                  <a:lnTo>
                    <a:pt x="681" y="2880"/>
                  </a:lnTo>
                  <a:lnTo>
                    <a:pt x="273" y="4320"/>
                  </a:lnTo>
                  <a:lnTo>
                    <a:pt x="136" y="4320"/>
                  </a:lnTo>
                  <a:lnTo>
                    <a:pt x="0" y="5760"/>
                  </a:lnTo>
                  <a:lnTo>
                    <a:pt x="136" y="7200"/>
                  </a:lnTo>
                  <a:lnTo>
                    <a:pt x="545" y="8640"/>
                  </a:lnTo>
                  <a:lnTo>
                    <a:pt x="1226" y="10080"/>
                  </a:lnTo>
                  <a:lnTo>
                    <a:pt x="2317" y="12960"/>
                  </a:lnTo>
                  <a:lnTo>
                    <a:pt x="3816" y="14400"/>
                  </a:lnTo>
                  <a:lnTo>
                    <a:pt x="5701" y="15840"/>
                  </a:lnTo>
                  <a:lnTo>
                    <a:pt x="7745" y="18720"/>
                  </a:lnTo>
                  <a:lnTo>
                    <a:pt x="10198" y="20160"/>
                  </a:lnTo>
                  <a:lnTo>
                    <a:pt x="12901" y="20160"/>
                  </a:lnTo>
                  <a:lnTo>
                    <a:pt x="15763" y="21600"/>
                  </a:lnTo>
                  <a:lnTo>
                    <a:pt x="18738" y="21600"/>
                  </a:lnTo>
                  <a:lnTo>
                    <a:pt x="21600" y="21600"/>
                  </a:lnTo>
                  <a:lnTo>
                    <a:pt x="21600" y="1440"/>
                  </a:lnTo>
                  <a:lnTo>
                    <a:pt x="18874" y="1440"/>
                  </a:lnTo>
                  <a:lnTo>
                    <a:pt x="17534" y="1440"/>
                  </a:lnTo>
                  <a:lnTo>
                    <a:pt x="15899" y="0"/>
                  </a:lnTo>
                  <a:lnTo>
                    <a:pt x="15899" y="0"/>
                  </a:lnTo>
                  <a:close/>
                  <a:moveTo>
                    <a:pt x="15899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03720" y="3476520"/>
              <a:ext cx="230040" cy="3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1672"/>
                  </a:lnTo>
                  <a:lnTo>
                    <a:pt x="6353" y="10034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97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03720" y="3813120"/>
              <a:ext cx="203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03720" y="39859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47280" y="2717640"/>
              <a:ext cx="23004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31"/>
                  </a:lnTo>
                  <a:lnTo>
                    <a:pt x="6353" y="9969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38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361680" y="3043080"/>
              <a:ext cx="1886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347280" y="32335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253680" y="7956360"/>
              <a:ext cx="1472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10120" y="2543040"/>
              <a:ext cx="5876640" cy="10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8" y="0"/>
                  </a:moveTo>
                  <a:lnTo>
                    <a:pt x="21600" y="3503"/>
                  </a:lnTo>
                  <a:lnTo>
                    <a:pt x="50" y="21600"/>
                  </a:lnTo>
                  <a:lnTo>
                    <a:pt x="0" y="19265"/>
                  </a:lnTo>
                  <a:lnTo>
                    <a:pt x="10200" y="4670"/>
                  </a:lnTo>
                  <a:lnTo>
                    <a:pt x="11250" y="3795"/>
                  </a:lnTo>
                  <a:lnTo>
                    <a:pt x="21458" y="0"/>
                  </a:lnTo>
                  <a:lnTo>
                    <a:pt x="21458" y="0"/>
                  </a:lnTo>
                  <a:close/>
                  <a:moveTo>
                    <a:pt x="21458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2920" y="8516880"/>
              <a:ext cx="188280" cy="214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29480" y="8735760"/>
              <a:ext cx="20268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1240" y="8735760"/>
              <a:ext cx="164520" cy="203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16280" y="8662680"/>
              <a:ext cx="3112920" cy="878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3960" y="8653320"/>
              <a:ext cx="3390480" cy="64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08360" y="8712000"/>
              <a:ext cx="3217680" cy="4968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8480" y="8550000"/>
              <a:ext cx="20268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239280" y="8132760"/>
              <a:ext cx="164880" cy="244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565920" y="4000320"/>
              <a:ext cx="390240" cy="5734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675720" y="3485880"/>
              <a:ext cx="171000" cy="546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524880" y="3933720"/>
              <a:ext cx="462960" cy="117360"/>
            </a:xfrm>
            <a:prstGeom prst="roundRect">
              <a:avLst>
                <a:gd name="adj" fmla="val 11718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20000" y="3449520"/>
              <a:ext cx="568080" cy="355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029" y="1151"/>
                  </a:lnTo>
                  <a:lnTo>
                    <a:pt x="1029" y="822"/>
                  </a:lnTo>
                  <a:lnTo>
                    <a:pt x="0" y="164"/>
                  </a:lnTo>
                  <a:lnTo>
                    <a:pt x="6171" y="0"/>
                  </a:lnTo>
                  <a:lnTo>
                    <a:pt x="6171" y="0"/>
                  </a:lnTo>
                  <a:lnTo>
                    <a:pt x="6686" y="658"/>
                  </a:lnTo>
                  <a:lnTo>
                    <a:pt x="7543" y="90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410400" y="3206520"/>
              <a:ext cx="71568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05" y="0"/>
                  </a:moveTo>
                  <a:lnTo>
                    <a:pt x="15516" y="939"/>
                  </a:lnTo>
                  <a:lnTo>
                    <a:pt x="18797" y="5635"/>
                  </a:lnTo>
                  <a:lnTo>
                    <a:pt x="20780" y="12209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752" y="12209"/>
                  </a:lnTo>
                  <a:lnTo>
                    <a:pt x="3213" y="5635"/>
                  </a:lnTo>
                  <a:lnTo>
                    <a:pt x="6494" y="939"/>
                  </a:lnTo>
                  <a:lnTo>
                    <a:pt x="11005" y="0"/>
                  </a:lnTo>
                  <a:lnTo>
                    <a:pt x="11005" y="0"/>
                  </a:lnTo>
                  <a:close/>
                  <a:moveTo>
                    <a:pt x="11005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640" y="288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Youth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405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13: became student of Aristo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totle is considered one of the greatest minds in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was eager to lea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Aristotle inspired in him love for literature, sciences, philosophy, and s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was always interested in foreign policy and would meet with ambassadors from different countries that came to his father’s cou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128080" y="2273400"/>
            <a:ext cx="2641680" cy="3136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086600" y="5605560"/>
            <a:ext cx="4791240" cy="31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5403960" y="2543040"/>
            <a:ext cx="7595640" cy="7191360"/>
            <a:chOff x="5403960" y="2543040"/>
            <a:chExt cx="7595640" cy="7191360"/>
          </a:xfrm>
        </p:grpSpPr>
        <p:sp>
          <p:nvSpPr>
            <p:cNvPr id="273" name=""/>
            <p:cNvSpPr/>
            <p:nvPr/>
          </p:nvSpPr>
          <p:spPr>
            <a:xfrm>
              <a:off x="9548640" y="3079440"/>
              <a:ext cx="444240" cy="230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704160" y="2673360"/>
              <a:ext cx="105840" cy="106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20000">
              <a:off x="11764800" y="3365280"/>
              <a:ext cx="13680" cy="4681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94760" y="7918200"/>
              <a:ext cx="149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20000">
              <a:off x="12404520" y="3461760"/>
              <a:ext cx="14040" cy="451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0700000">
              <a:off x="12723480" y="3433320"/>
              <a:ext cx="14040" cy="19890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460000">
              <a:off x="7770600" y="4097160"/>
              <a:ext cx="12240" cy="45910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1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139400">
              <a:off x="6238440" y="4103280"/>
              <a:ext cx="13680" cy="4784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39400">
              <a:off x="6840360" y="4220640"/>
              <a:ext cx="13680" cy="430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6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045360" y="6818040"/>
              <a:ext cx="140616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" y="2492"/>
                  </a:moveTo>
                  <a:lnTo>
                    <a:pt x="5617" y="4985"/>
                  </a:lnTo>
                  <a:lnTo>
                    <a:pt x="8702" y="4985"/>
                  </a:lnTo>
                  <a:lnTo>
                    <a:pt x="12274" y="4154"/>
                  </a:lnTo>
                  <a:lnTo>
                    <a:pt x="16399" y="2492"/>
                  </a:lnTo>
                  <a:lnTo>
                    <a:pt x="21184" y="0"/>
                  </a:lnTo>
                  <a:lnTo>
                    <a:pt x="21600" y="15785"/>
                  </a:lnTo>
                  <a:lnTo>
                    <a:pt x="17231" y="19108"/>
                  </a:lnTo>
                  <a:lnTo>
                    <a:pt x="14354" y="20769"/>
                  </a:lnTo>
                  <a:lnTo>
                    <a:pt x="11025" y="21600"/>
                  </a:lnTo>
                  <a:lnTo>
                    <a:pt x="7454" y="21600"/>
                  </a:lnTo>
                  <a:lnTo>
                    <a:pt x="3744" y="20769"/>
                  </a:lnTo>
                  <a:lnTo>
                    <a:pt x="0" y="18277"/>
                  </a:lnTo>
                  <a:lnTo>
                    <a:pt x="208" y="2492"/>
                  </a:lnTo>
                  <a:lnTo>
                    <a:pt x="208" y="2492"/>
                  </a:lnTo>
                  <a:close/>
                  <a:moveTo>
                    <a:pt x="208" y="2492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748880" y="8105760"/>
              <a:ext cx="22489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01" y="1029"/>
                  </a:moveTo>
                  <a:lnTo>
                    <a:pt x="14182" y="1029"/>
                  </a:lnTo>
                  <a:lnTo>
                    <a:pt x="12247" y="1029"/>
                  </a:lnTo>
                  <a:lnTo>
                    <a:pt x="10419" y="1029"/>
                  </a:lnTo>
                  <a:lnTo>
                    <a:pt x="8723" y="1029"/>
                  </a:lnTo>
                  <a:lnTo>
                    <a:pt x="7287" y="0"/>
                  </a:lnTo>
                  <a:lnTo>
                    <a:pt x="6004" y="0"/>
                  </a:lnTo>
                  <a:lnTo>
                    <a:pt x="4829" y="0"/>
                  </a:lnTo>
                  <a:lnTo>
                    <a:pt x="3915" y="1029"/>
                  </a:lnTo>
                  <a:lnTo>
                    <a:pt x="3002" y="1029"/>
                  </a:lnTo>
                  <a:lnTo>
                    <a:pt x="2349" y="1029"/>
                  </a:lnTo>
                  <a:lnTo>
                    <a:pt x="1175" y="1029"/>
                  </a:lnTo>
                  <a:lnTo>
                    <a:pt x="522" y="2057"/>
                  </a:lnTo>
                  <a:lnTo>
                    <a:pt x="131" y="3086"/>
                  </a:lnTo>
                  <a:lnTo>
                    <a:pt x="0" y="4114"/>
                  </a:lnTo>
                  <a:lnTo>
                    <a:pt x="261" y="7200"/>
                  </a:lnTo>
                  <a:lnTo>
                    <a:pt x="392" y="8229"/>
                  </a:lnTo>
                  <a:lnTo>
                    <a:pt x="653" y="9257"/>
                  </a:lnTo>
                  <a:lnTo>
                    <a:pt x="1305" y="10286"/>
                  </a:lnTo>
                  <a:lnTo>
                    <a:pt x="1958" y="12343"/>
                  </a:lnTo>
                  <a:lnTo>
                    <a:pt x="3132" y="14400"/>
                  </a:lnTo>
                  <a:lnTo>
                    <a:pt x="4568" y="15429"/>
                  </a:lnTo>
                  <a:lnTo>
                    <a:pt x="6373" y="17486"/>
                  </a:lnTo>
                  <a:lnTo>
                    <a:pt x="8462" y="18514"/>
                  </a:lnTo>
                  <a:lnTo>
                    <a:pt x="10941" y="20571"/>
                  </a:lnTo>
                  <a:lnTo>
                    <a:pt x="13530" y="20571"/>
                  </a:lnTo>
                  <a:lnTo>
                    <a:pt x="16401" y="21600"/>
                  </a:lnTo>
                  <a:lnTo>
                    <a:pt x="18990" y="21600"/>
                  </a:lnTo>
                  <a:lnTo>
                    <a:pt x="21600" y="21600"/>
                  </a:lnTo>
                  <a:lnTo>
                    <a:pt x="21600" y="2057"/>
                  </a:lnTo>
                  <a:lnTo>
                    <a:pt x="19120" y="2057"/>
                  </a:lnTo>
                  <a:lnTo>
                    <a:pt x="16401" y="1029"/>
                  </a:lnTo>
                  <a:lnTo>
                    <a:pt x="16401" y="1029"/>
                  </a:lnTo>
                  <a:close/>
                  <a:moveTo>
                    <a:pt x="16401" y="1029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802520" y="8227800"/>
              <a:ext cx="2195280" cy="55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35" y="4761"/>
                  </a:lnTo>
                  <a:lnTo>
                    <a:pt x="1471" y="8464"/>
                  </a:lnTo>
                  <a:lnTo>
                    <a:pt x="2675" y="12078"/>
                  </a:lnTo>
                  <a:lnTo>
                    <a:pt x="4414" y="15252"/>
                  </a:lnTo>
                  <a:lnTo>
                    <a:pt x="6531" y="17897"/>
                  </a:lnTo>
                  <a:lnTo>
                    <a:pt x="7869" y="18955"/>
                  </a:lnTo>
                  <a:lnTo>
                    <a:pt x="9206" y="20013"/>
                  </a:lnTo>
                  <a:lnTo>
                    <a:pt x="10677" y="20542"/>
                  </a:lnTo>
                  <a:lnTo>
                    <a:pt x="12394" y="21071"/>
                  </a:lnTo>
                  <a:lnTo>
                    <a:pt x="14133" y="21600"/>
                  </a:lnTo>
                  <a:lnTo>
                    <a:pt x="16139" y="21600"/>
                  </a:lnTo>
                  <a:lnTo>
                    <a:pt x="19059" y="21600"/>
                  </a:lnTo>
                  <a:lnTo>
                    <a:pt x="21600" y="21071"/>
                  </a:lnTo>
                  <a:lnTo>
                    <a:pt x="21600" y="5290"/>
                  </a:lnTo>
                  <a:lnTo>
                    <a:pt x="15604" y="5290"/>
                  </a:lnTo>
                  <a:lnTo>
                    <a:pt x="11212" y="4761"/>
                  </a:lnTo>
                  <a:lnTo>
                    <a:pt x="7066" y="3703"/>
                  </a:lnTo>
                  <a:lnTo>
                    <a:pt x="3344" y="2116"/>
                  </a:lnTo>
                  <a:lnTo>
                    <a:pt x="1605" y="1058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843920" y="8105760"/>
              <a:ext cx="21556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99" y="0"/>
                  </a:moveTo>
                  <a:lnTo>
                    <a:pt x="13582" y="0"/>
                  </a:lnTo>
                  <a:lnTo>
                    <a:pt x="11697" y="0"/>
                  </a:lnTo>
                  <a:lnTo>
                    <a:pt x="9789" y="0"/>
                  </a:lnTo>
                  <a:lnTo>
                    <a:pt x="8290" y="0"/>
                  </a:lnTo>
                  <a:lnTo>
                    <a:pt x="6791" y="0"/>
                  </a:lnTo>
                  <a:lnTo>
                    <a:pt x="5565" y="0"/>
                  </a:lnTo>
                  <a:lnTo>
                    <a:pt x="4497" y="0"/>
                  </a:lnTo>
                  <a:lnTo>
                    <a:pt x="3679" y="0"/>
                  </a:lnTo>
                  <a:lnTo>
                    <a:pt x="2862" y="1440"/>
                  </a:lnTo>
                  <a:lnTo>
                    <a:pt x="2180" y="1440"/>
                  </a:lnTo>
                  <a:lnTo>
                    <a:pt x="1226" y="2880"/>
                  </a:lnTo>
                  <a:lnTo>
                    <a:pt x="681" y="2880"/>
                  </a:lnTo>
                  <a:lnTo>
                    <a:pt x="273" y="4320"/>
                  </a:lnTo>
                  <a:lnTo>
                    <a:pt x="136" y="4320"/>
                  </a:lnTo>
                  <a:lnTo>
                    <a:pt x="0" y="5760"/>
                  </a:lnTo>
                  <a:lnTo>
                    <a:pt x="136" y="7200"/>
                  </a:lnTo>
                  <a:lnTo>
                    <a:pt x="545" y="8640"/>
                  </a:lnTo>
                  <a:lnTo>
                    <a:pt x="1226" y="10080"/>
                  </a:lnTo>
                  <a:lnTo>
                    <a:pt x="2317" y="12960"/>
                  </a:lnTo>
                  <a:lnTo>
                    <a:pt x="3816" y="14400"/>
                  </a:lnTo>
                  <a:lnTo>
                    <a:pt x="5701" y="15840"/>
                  </a:lnTo>
                  <a:lnTo>
                    <a:pt x="7745" y="18720"/>
                  </a:lnTo>
                  <a:lnTo>
                    <a:pt x="10198" y="20160"/>
                  </a:lnTo>
                  <a:lnTo>
                    <a:pt x="12901" y="20160"/>
                  </a:lnTo>
                  <a:lnTo>
                    <a:pt x="15763" y="21600"/>
                  </a:lnTo>
                  <a:lnTo>
                    <a:pt x="18738" y="21600"/>
                  </a:lnTo>
                  <a:lnTo>
                    <a:pt x="21600" y="21600"/>
                  </a:lnTo>
                  <a:lnTo>
                    <a:pt x="21600" y="1440"/>
                  </a:lnTo>
                  <a:lnTo>
                    <a:pt x="18874" y="1440"/>
                  </a:lnTo>
                  <a:lnTo>
                    <a:pt x="17534" y="1440"/>
                  </a:lnTo>
                  <a:lnTo>
                    <a:pt x="15899" y="0"/>
                  </a:lnTo>
                  <a:lnTo>
                    <a:pt x="15899" y="0"/>
                  </a:lnTo>
                  <a:close/>
                  <a:moveTo>
                    <a:pt x="15899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03720" y="3476520"/>
              <a:ext cx="230040" cy="3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1672"/>
                  </a:lnTo>
                  <a:lnTo>
                    <a:pt x="6353" y="10034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97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03720" y="3813120"/>
              <a:ext cx="203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03720" y="39859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47280" y="2717640"/>
              <a:ext cx="23004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31"/>
                  </a:lnTo>
                  <a:lnTo>
                    <a:pt x="6353" y="9969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38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61680" y="3043080"/>
              <a:ext cx="1886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47280" y="32335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53680" y="7956360"/>
              <a:ext cx="1472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10120" y="2543040"/>
              <a:ext cx="5876640" cy="10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8" y="0"/>
                  </a:moveTo>
                  <a:lnTo>
                    <a:pt x="21600" y="3503"/>
                  </a:lnTo>
                  <a:lnTo>
                    <a:pt x="50" y="21600"/>
                  </a:lnTo>
                  <a:lnTo>
                    <a:pt x="0" y="19265"/>
                  </a:lnTo>
                  <a:lnTo>
                    <a:pt x="10200" y="4670"/>
                  </a:lnTo>
                  <a:lnTo>
                    <a:pt x="11250" y="3795"/>
                  </a:lnTo>
                  <a:lnTo>
                    <a:pt x="21458" y="0"/>
                  </a:lnTo>
                  <a:lnTo>
                    <a:pt x="21458" y="0"/>
                  </a:lnTo>
                  <a:close/>
                  <a:moveTo>
                    <a:pt x="21458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2920" y="8516880"/>
              <a:ext cx="188280" cy="214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9480" y="8735760"/>
              <a:ext cx="20268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21240" y="8735760"/>
              <a:ext cx="164520" cy="203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6280" y="8662680"/>
              <a:ext cx="3112920" cy="878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03960" y="8653320"/>
              <a:ext cx="3390480" cy="64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08360" y="8712000"/>
              <a:ext cx="3217680" cy="4968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48480" y="8550000"/>
              <a:ext cx="20268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239280" y="8132760"/>
              <a:ext cx="164880" cy="244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565920" y="4000320"/>
              <a:ext cx="390240" cy="5734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675720" y="3485880"/>
              <a:ext cx="171000" cy="546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524880" y="3933720"/>
              <a:ext cx="462960" cy="117360"/>
            </a:xfrm>
            <a:prstGeom prst="roundRect">
              <a:avLst>
                <a:gd name="adj" fmla="val 11718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720000" y="3449520"/>
              <a:ext cx="568080" cy="355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029" y="1151"/>
                  </a:lnTo>
                  <a:lnTo>
                    <a:pt x="1029" y="822"/>
                  </a:lnTo>
                  <a:lnTo>
                    <a:pt x="0" y="164"/>
                  </a:lnTo>
                  <a:lnTo>
                    <a:pt x="6171" y="0"/>
                  </a:lnTo>
                  <a:lnTo>
                    <a:pt x="6171" y="0"/>
                  </a:lnTo>
                  <a:lnTo>
                    <a:pt x="6686" y="658"/>
                  </a:lnTo>
                  <a:lnTo>
                    <a:pt x="7543" y="90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410400" y="3206520"/>
              <a:ext cx="71568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05" y="0"/>
                  </a:moveTo>
                  <a:lnTo>
                    <a:pt x="15516" y="939"/>
                  </a:lnTo>
                  <a:lnTo>
                    <a:pt x="18797" y="5635"/>
                  </a:lnTo>
                  <a:lnTo>
                    <a:pt x="20780" y="12209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752" y="12209"/>
                  </a:lnTo>
                  <a:lnTo>
                    <a:pt x="3213" y="5635"/>
                  </a:lnTo>
                  <a:lnTo>
                    <a:pt x="6494" y="939"/>
                  </a:lnTo>
                  <a:lnTo>
                    <a:pt x="11005" y="0"/>
                  </a:lnTo>
                  <a:lnTo>
                    <a:pt x="11005" y="0"/>
                  </a:lnTo>
                  <a:close/>
                  <a:moveTo>
                    <a:pt x="11005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Rise to Power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405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16: given command of Macedon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also acted as his father's ambassador to Athe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20: Became king of Maced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705720" y="2612880"/>
            <a:ext cx="574020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640" y="193680"/>
            <a:ext cx="11709360" cy="21448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ctr">
            <a:noAutofit/>
          </a:bodyPr>
          <a:p>
            <a:pPr marL="95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Military Leader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Invades Persia and at Battle of The Granicus 334B.C. defeats an army of 1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He goes to Egypt and is called phar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A7D2-3B4E-4929-9568-937E5EC844A3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65C3-D941-449A-A2DE-475869C3E4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5403960" y="2543040"/>
            <a:ext cx="7595640" cy="7191360"/>
            <a:chOff x="5403960" y="2543040"/>
            <a:chExt cx="7595640" cy="7191360"/>
          </a:xfrm>
        </p:grpSpPr>
        <p:sp>
          <p:nvSpPr>
            <p:cNvPr id="314" name=""/>
            <p:cNvSpPr/>
            <p:nvPr/>
          </p:nvSpPr>
          <p:spPr>
            <a:xfrm>
              <a:off x="9548640" y="3079440"/>
              <a:ext cx="444240" cy="230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704160" y="2673360"/>
              <a:ext cx="105840" cy="106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020000">
              <a:off x="11764800" y="3365280"/>
              <a:ext cx="13680" cy="4681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994760" y="7918200"/>
              <a:ext cx="149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20000">
              <a:off x="12404520" y="3461760"/>
              <a:ext cx="14040" cy="451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700000">
              <a:off x="12723480" y="3433320"/>
              <a:ext cx="14040" cy="19890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460000">
              <a:off x="7770600" y="4097160"/>
              <a:ext cx="12240" cy="45910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1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139400">
              <a:off x="6238440" y="4103280"/>
              <a:ext cx="13680" cy="4784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39400">
              <a:off x="6840360" y="4220640"/>
              <a:ext cx="13680" cy="430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6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5360" y="6818040"/>
              <a:ext cx="140616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" y="2492"/>
                  </a:moveTo>
                  <a:lnTo>
                    <a:pt x="5617" y="4985"/>
                  </a:lnTo>
                  <a:lnTo>
                    <a:pt x="8702" y="4985"/>
                  </a:lnTo>
                  <a:lnTo>
                    <a:pt x="12274" y="4154"/>
                  </a:lnTo>
                  <a:lnTo>
                    <a:pt x="16399" y="2492"/>
                  </a:lnTo>
                  <a:lnTo>
                    <a:pt x="21184" y="0"/>
                  </a:lnTo>
                  <a:lnTo>
                    <a:pt x="21600" y="15785"/>
                  </a:lnTo>
                  <a:lnTo>
                    <a:pt x="17231" y="19108"/>
                  </a:lnTo>
                  <a:lnTo>
                    <a:pt x="14354" y="20769"/>
                  </a:lnTo>
                  <a:lnTo>
                    <a:pt x="11025" y="21600"/>
                  </a:lnTo>
                  <a:lnTo>
                    <a:pt x="7454" y="21600"/>
                  </a:lnTo>
                  <a:lnTo>
                    <a:pt x="3744" y="20769"/>
                  </a:lnTo>
                  <a:lnTo>
                    <a:pt x="0" y="18277"/>
                  </a:lnTo>
                  <a:lnTo>
                    <a:pt x="208" y="2492"/>
                  </a:lnTo>
                  <a:lnTo>
                    <a:pt x="208" y="2492"/>
                  </a:lnTo>
                  <a:close/>
                  <a:moveTo>
                    <a:pt x="208" y="2492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748880" y="8105760"/>
              <a:ext cx="22489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01" y="1029"/>
                  </a:moveTo>
                  <a:lnTo>
                    <a:pt x="14182" y="1029"/>
                  </a:lnTo>
                  <a:lnTo>
                    <a:pt x="12247" y="1029"/>
                  </a:lnTo>
                  <a:lnTo>
                    <a:pt x="10419" y="1029"/>
                  </a:lnTo>
                  <a:lnTo>
                    <a:pt x="8723" y="1029"/>
                  </a:lnTo>
                  <a:lnTo>
                    <a:pt x="7287" y="0"/>
                  </a:lnTo>
                  <a:lnTo>
                    <a:pt x="6004" y="0"/>
                  </a:lnTo>
                  <a:lnTo>
                    <a:pt x="4829" y="0"/>
                  </a:lnTo>
                  <a:lnTo>
                    <a:pt x="3915" y="1029"/>
                  </a:lnTo>
                  <a:lnTo>
                    <a:pt x="3002" y="1029"/>
                  </a:lnTo>
                  <a:lnTo>
                    <a:pt x="2349" y="1029"/>
                  </a:lnTo>
                  <a:lnTo>
                    <a:pt x="1175" y="1029"/>
                  </a:lnTo>
                  <a:lnTo>
                    <a:pt x="522" y="2057"/>
                  </a:lnTo>
                  <a:lnTo>
                    <a:pt x="131" y="3086"/>
                  </a:lnTo>
                  <a:lnTo>
                    <a:pt x="0" y="4114"/>
                  </a:lnTo>
                  <a:lnTo>
                    <a:pt x="261" y="7200"/>
                  </a:lnTo>
                  <a:lnTo>
                    <a:pt x="392" y="8229"/>
                  </a:lnTo>
                  <a:lnTo>
                    <a:pt x="653" y="9257"/>
                  </a:lnTo>
                  <a:lnTo>
                    <a:pt x="1305" y="10286"/>
                  </a:lnTo>
                  <a:lnTo>
                    <a:pt x="1958" y="12343"/>
                  </a:lnTo>
                  <a:lnTo>
                    <a:pt x="3132" y="14400"/>
                  </a:lnTo>
                  <a:lnTo>
                    <a:pt x="4568" y="15429"/>
                  </a:lnTo>
                  <a:lnTo>
                    <a:pt x="6373" y="17486"/>
                  </a:lnTo>
                  <a:lnTo>
                    <a:pt x="8462" y="18514"/>
                  </a:lnTo>
                  <a:lnTo>
                    <a:pt x="10941" y="20571"/>
                  </a:lnTo>
                  <a:lnTo>
                    <a:pt x="13530" y="20571"/>
                  </a:lnTo>
                  <a:lnTo>
                    <a:pt x="16401" y="21600"/>
                  </a:lnTo>
                  <a:lnTo>
                    <a:pt x="18990" y="21600"/>
                  </a:lnTo>
                  <a:lnTo>
                    <a:pt x="21600" y="21600"/>
                  </a:lnTo>
                  <a:lnTo>
                    <a:pt x="21600" y="2057"/>
                  </a:lnTo>
                  <a:lnTo>
                    <a:pt x="19120" y="2057"/>
                  </a:lnTo>
                  <a:lnTo>
                    <a:pt x="16401" y="1029"/>
                  </a:lnTo>
                  <a:lnTo>
                    <a:pt x="16401" y="1029"/>
                  </a:lnTo>
                  <a:close/>
                  <a:moveTo>
                    <a:pt x="16401" y="1029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802520" y="8227800"/>
              <a:ext cx="2195280" cy="55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35" y="4761"/>
                  </a:lnTo>
                  <a:lnTo>
                    <a:pt x="1471" y="8464"/>
                  </a:lnTo>
                  <a:lnTo>
                    <a:pt x="2675" y="12078"/>
                  </a:lnTo>
                  <a:lnTo>
                    <a:pt x="4414" y="15252"/>
                  </a:lnTo>
                  <a:lnTo>
                    <a:pt x="6531" y="17897"/>
                  </a:lnTo>
                  <a:lnTo>
                    <a:pt x="7869" y="18955"/>
                  </a:lnTo>
                  <a:lnTo>
                    <a:pt x="9206" y="20013"/>
                  </a:lnTo>
                  <a:lnTo>
                    <a:pt x="10677" y="20542"/>
                  </a:lnTo>
                  <a:lnTo>
                    <a:pt x="12394" y="21071"/>
                  </a:lnTo>
                  <a:lnTo>
                    <a:pt x="14133" y="21600"/>
                  </a:lnTo>
                  <a:lnTo>
                    <a:pt x="16139" y="21600"/>
                  </a:lnTo>
                  <a:lnTo>
                    <a:pt x="19059" y="21600"/>
                  </a:lnTo>
                  <a:lnTo>
                    <a:pt x="21600" y="21071"/>
                  </a:lnTo>
                  <a:lnTo>
                    <a:pt x="21600" y="5290"/>
                  </a:lnTo>
                  <a:lnTo>
                    <a:pt x="15604" y="5290"/>
                  </a:lnTo>
                  <a:lnTo>
                    <a:pt x="11212" y="4761"/>
                  </a:lnTo>
                  <a:lnTo>
                    <a:pt x="7066" y="3703"/>
                  </a:lnTo>
                  <a:lnTo>
                    <a:pt x="3344" y="2116"/>
                  </a:lnTo>
                  <a:lnTo>
                    <a:pt x="1605" y="1058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843920" y="8105760"/>
              <a:ext cx="21556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99" y="0"/>
                  </a:moveTo>
                  <a:lnTo>
                    <a:pt x="13582" y="0"/>
                  </a:lnTo>
                  <a:lnTo>
                    <a:pt x="11697" y="0"/>
                  </a:lnTo>
                  <a:lnTo>
                    <a:pt x="9789" y="0"/>
                  </a:lnTo>
                  <a:lnTo>
                    <a:pt x="8290" y="0"/>
                  </a:lnTo>
                  <a:lnTo>
                    <a:pt x="6791" y="0"/>
                  </a:lnTo>
                  <a:lnTo>
                    <a:pt x="5565" y="0"/>
                  </a:lnTo>
                  <a:lnTo>
                    <a:pt x="4497" y="0"/>
                  </a:lnTo>
                  <a:lnTo>
                    <a:pt x="3679" y="0"/>
                  </a:lnTo>
                  <a:lnTo>
                    <a:pt x="2862" y="1440"/>
                  </a:lnTo>
                  <a:lnTo>
                    <a:pt x="2180" y="1440"/>
                  </a:lnTo>
                  <a:lnTo>
                    <a:pt x="1226" y="2880"/>
                  </a:lnTo>
                  <a:lnTo>
                    <a:pt x="681" y="2880"/>
                  </a:lnTo>
                  <a:lnTo>
                    <a:pt x="273" y="4320"/>
                  </a:lnTo>
                  <a:lnTo>
                    <a:pt x="136" y="4320"/>
                  </a:lnTo>
                  <a:lnTo>
                    <a:pt x="0" y="5760"/>
                  </a:lnTo>
                  <a:lnTo>
                    <a:pt x="136" y="7200"/>
                  </a:lnTo>
                  <a:lnTo>
                    <a:pt x="545" y="8640"/>
                  </a:lnTo>
                  <a:lnTo>
                    <a:pt x="1226" y="10080"/>
                  </a:lnTo>
                  <a:lnTo>
                    <a:pt x="2317" y="12960"/>
                  </a:lnTo>
                  <a:lnTo>
                    <a:pt x="3816" y="14400"/>
                  </a:lnTo>
                  <a:lnTo>
                    <a:pt x="5701" y="15840"/>
                  </a:lnTo>
                  <a:lnTo>
                    <a:pt x="7745" y="18720"/>
                  </a:lnTo>
                  <a:lnTo>
                    <a:pt x="10198" y="20160"/>
                  </a:lnTo>
                  <a:lnTo>
                    <a:pt x="12901" y="20160"/>
                  </a:lnTo>
                  <a:lnTo>
                    <a:pt x="15763" y="21600"/>
                  </a:lnTo>
                  <a:lnTo>
                    <a:pt x="18738" y="21600"/>
                  </a:lnTo>
                  <a:lnTo>
                    <a:pt x="21600" y="21600"/>
                  </a:lnTo>
                  <a:lnTo>
                    <a:pt x="21600" y="1440"/>
                  </a:lnTo>
                  <a:lnTo>
                    <a:pt x="18874" y="1440"/>
                  </a:lnTo>
                  <a:lnTo>
                    <a:pt x="17534" y="1440"/>
                  </a:lnTo>
                  <a:lnTo>
                    <a:pt x="15899" y="0"/>
                  </a:lnTo>
                  <a:lnTo>
                    <a:pt x="15899" y="0"/>
                  </a:lnTo>
                  <a:close/>
                  <a:moveTo>
                    <a:pt x="15899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03720" y="3476520"/>
              <a:ext cx="230040" cy="3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1672"/>
                  </a:lnTo>
                  <a:lnTo>
                    <a:pt x="6353" y="10034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97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03720" y="3813120"/>
              <a:ext cx="203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03720" y="39859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347280" y="2717640"/>
              <a:ext cx="23004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31"/>
                  </a:lnTo>
                  <a:lnTo>
                    <a:pt x="6353" y="9969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38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361680" y="3043080"/>
              <a:ext cx="1886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347280" y="32335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253680" y="7956360"/>
              <a:ext cx="1472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10120" y="2543040"/>
              <a:ext cx="5876640" cy="10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8" y="0"/>
                  </a:moveTo>
                  <a:lnTo>
                    <a:pt x="21600" y="3503"/>
                  </a:lnTo>
                  <a:lnTo>
                    <a:pt x="50" y="21600"/>
                  </a:lnTo>
                  <a:lnTo>
                    <a:pt x="0" y="19265"/>
                  </a:lnTo>
                  <a:lnTo>
                    <a:pt x="10200" y="4670"/>
                  </a:lnTo>
                  <a:lnTo>
                    <a:pt x="11250" y="3795"/>
                  </a:lnTo>
                  <a:lnTo>
                    <a:pt x="21458" y="0"/>
                  </a:lnTo>
                  <a:lnTo>
                    <a:pt x="21458" y="0"/>
                  </a:lnTo>
                  <a:close/>
                  <a:moveTo>
                    <a:pt x="21458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2920" y="8516880"/>
              <a:ext cx="188280" cy="214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29480" y="8735760"/>
              <a:ext cx="20268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21240" y="8735760"/>
              <a:ext cx="164520" cy="203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16280" y="8662680"/>
              <a:ext cx="3112920" cy="878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03960" y="8653320"/>
              <a:ext cx="3390480" cy="64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8360" y="8712000"/>
              <a:ext cx="3217680" cy="4968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448480" y="8550000"/>
              <a:ext cx="20268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239280" y="8132760"/>
              <a:ext cx="164880" cy="244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565920" y="4000320"/>
              <a:ext cx="390240" cy="5734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675720" y="3485880"/>
              <a:ext cx="171000" cy="546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24880" y="3933720"/>
              <a:ext cx="462960" cy="117360"/>
            </a:xfrm>
            <a:prstGeom prst="roundRect">
              <a:avLst>
                <a:gd name="adj" fmla="val 11718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720000" y="3449520"/>
              <a:ext cx="568080" cy="355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029" y="1151"/>
                  </a:lnTo>
                  <a:lnTo>
                    <a:pt x="1029" y="822"/>
                  </a:lnTo>
                  <a:lnTo>
                    <a:pt x="0" y="164"/>
                  </a:lnTo>
                  <a:lnTo>
                    <a:pt x="6171" y="0"/>
                  </a:lnTo>
                  <a:lnTo>
                    <a:pt x="6171" y="0"/>
                  </a:lnTo>
                  <a:lnTo>
                    <a:pt x="6686" y="658"/>
                  </a:lnTo>
                  <a:lnTo>
                    <a:pt x="7543" y="90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410400" y="3206520"/>
              <a:ext cx="71568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05" y="0"/>
                  </a:moveTo>
                  <a:lnTo>
                    <a:pt x="15516" y="939"/>
                  </a:lnTo>
                  <a:lnTo>
                    <a:pt x="18797" y="5635"/>
                  </a:lnTo>
                  <a:lnTo>
                    <a:pt x="20780" y="12209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752" y="12209"/>
                  </a:lnTo>
                  <a:lnTo>
                    <a:pt x="3213" y="5635"/>
                  </a:lnTo>
                  <a:lnTo>
                    <a:pt x="6494" y="939"/>
                  </a:lnTo>
                  <a:lnTo>
                    <a:pt x="11005" y="0"/>
                  </a:lnTo>
                  <a:lnTo>
                    <a:pt x="11005" y="0"/>
                  </a:lnTo>
                  <a:close/>
                  <a:moveTo>
                    <a:pt x="11005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93760" y="571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Military Tactics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46120" y="1727280"/>
            <a:ext cx="57405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had a great military m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ert at organizing his units for complex battle maneuv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ing his true numbers and managing his army during the flow of battle. That was the ke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Developed the Phala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Box 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8 to 36 men d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Men in front carried spears 12 to 18 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438960" y="3479760"/>
            <a:ext cx="6616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288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ctr">
            <a:noAutofit/>
          </a:bodyPr>
          <a:p>
            <a:pPr marL="9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Times New Roman Bold Italic"/>
                <a:ea typeface="Times New Roman Bold Italic"/>
              </a:rPr>
              <a:t>Defeating Darius</a:t>
            </a:r>
            <a:br>
              <a:rPr sz="4800"/>
            </a:br>
            <a:r>
              <a:rPr b="0" lang="en-US" sz="4800" spc="-1" strike="noStrike">
                <a:solidFill>
                  <a:srgbClr val="003dcc"/>
                </a:solidFill>
                <a:latin typeface="Times New Roman Bold Italic"/>
                <a:ea typeface="Times New Roman Bold Italic"/>
              </a:rPr>
              <a:t>of Pers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100000"/>
              </a:lnSpc>
              <a:spcBef>
                <a:spcPts val="1100"/>
              </a:spcBef>
              <a:buSzPct val="17379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Arial"/>
              </a:rPr>
              <a:t>#1:  Alexander beat persia, losing only 110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Arial"/>
              </a:rPr>
              <a:t>#2:  Alexander won, Darius was forced to flee, leaving his mother, wife and children to Alexand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20CD-2637-4906-B9F5-5E2CF654DEDD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9449-8544-49B0-97A6-2F7CD910F7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7640" y="232416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"/>
              </a:rPr>
              <a:t>√</a:t>
            </a: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#3: , Alexander beat Darius,in Mesopotamia…</a:t>
            </a:r>
            <a:r>
              <a:rPr b="0" lang="en-US" sz="5000" spc="-1" strike="noStrike">
                <a:solidFill>
                  <a:srgbClr val="ff2712"/>
                </a:solidFill>
                <a:latin typeface="Tahoma"/>
                <a:ea typeface="Tahoma"/>
              </a:rPr>
              <a:t> Alexander was called king of Persia and Darius’s royal city were burned to the ground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C195-021A-487D-92C8-93803E97C028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A309-A0F8-4CFC-BC67-2DDE4CBAF6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100000"/>
              </a:lnSpc>
              <a:spcBef>
                <a:spcPts val="1100"/>
              </a:spcBef>
              <a:buSzPct val="1532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Darius was killed by his own men,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SzPct val="1532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Alexander killed the men and gave Darius a royal funer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06C9-40C6-449D-BFCA-E325A906792B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2F86-7EEA-4CB0-91CE-4745B85F36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ctr">
            <a:noAutofit/>
          </a:bodyPr>
          <a:p>
            <a:pPr marL="9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44fe"/>
                </a:solidFill>
                <a:latin typeface="Times New Roman Bold Italic"/>
                <a:ea typeface="Times New Roman Bold Italic"/>
              </a:rPr>
              <a:t>Legacy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-360" y="2260080"/>
            <a:ext cx="1235700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90000"/>
              </a:lnSpc>
              <a:spcBef>
                <a:spcPts val="1100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Made Babylonia the capital of Empi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90000"/>
              </a:lnSpc>
              <a:spcBef>
                <a:spcPts val="1100"/>
              </a:spcBef>
              <a:buSzPct val="1737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Arial"/>
              </a:rPr>
              <a:t>He married one of Darius’ daughters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C922-F865-4CF0-9DF0-D1F8F503CEE6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69A6-C817-447A-BDB1-972C79E242C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